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10633"/>
        <c:axId val="36925634"/>
      </c:barChart>
      <c:catAx>
        <c:axId val="19106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25634"/>
        <c:crosses val="autoZero"/>
        <c:auto val="1"/>
        <c:lblAlgn val="ctr"/>
        <c:lblOffset val="100"/>
        <c:noMultiLvlLbl val="0"/>
      </c:catAx>
      <c:valAx>
        <c:axId val="369256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06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1770-60B2-4E52-8B0A-C390B6916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8A8C-B878-4A94-A106-D9933053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C421-E275-4D67-9CB1-87E76F994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F3F1-75E1-4425-BD58-48CCA7D62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13B5-E1BE-4270-A295-6483C0ED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59A3-FC14-4D6C-8FAB-94F64B55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6DC5-D292-448A-BC3B-FF47D205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0398-4E82-44F3-939D-FE399284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64A9-EF10-4E8E-B51C-9ABE6B8B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00A7-8AF5-4508-ADE2-5112D269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AE35-0977-4974-9034-45ECD93E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F8FE-BA5B-4DCF-A6F0-B6D981D2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2F759-C074-40FF-A28E-D7DFAAA4CA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