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930"/>
        <c:axId val="49769046"/>
      </c:barChart>
      <c:catAx>
        <c:axId val="3697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9046"/>
        <c:crosses val="autoZero"/>
        <c:auto val="1"/>
        <c:lblAlgn val="ctr"/>
        <c:lblOffset val="100"/>
        <c:noMultiLvlLbl val="0"/>
      </c:catAx>
      <c:valAx>
        <c:axId val="4976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789-43B0-4150-9F96-22BE8524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6F7-CEC3-4B44-A036-EEC26FD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3B5-F94F-4C04-81A7-4D62F800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D63-038D-4E74-80B0-23975936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ADC-D312-48A6-A429-6EDBA391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2B3-19B7-44E3-AE71-A04059D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BD7-0834-4B72-B10D-043F0FB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EAC-AD83-4E24-8208-F5862DD2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F7C-6569-486C-8DB9-35F11B91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9DB-EEF9-48FC-9DEA-AA0573B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6B4-9FB2-4E6F-A546-C4DB07A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C31-08E7-4CDD-AFFF-86EF734F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9FFB8-755B-4367-81EF-F93100994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