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22568"/>
        <c:axId val="4761463"/>
      </c:barChart>
      <c:catAx>
        <c:axId val="90222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463"/>
        <c:crosses val="autoZero"/>
        <c:auto val="1"/>
        <c:lblAlgn val="ctr"/>
        <c:lblOffset val="100"/>
        <c:noMultiLvlLbl val="0"/>
      </c:catAx>
      <c:valAx>
        <c:axId val="4761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22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7A8-456E-4356-ACD5-7880F6B6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423-3421-415D-B8FD-E4F85D8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70D-7281-410D-8AD5-DF83976B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5D3-8227-4ED5-BA70-944717CD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EA8-33B2-4F0B-8CE1-307E7D6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CEE-0B5B-4D3C-ADA0-2699F6A0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695-50F5-4C26-9C18-D18FF9E9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D8A-1ABC-49D7-9758-68AA512F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229-5B90-447F-B1AA-6B45B14E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DA8-A22C-493F-8EAB-BE2D3C7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BFB-1F1D-48AB-937E-15F243A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2F1-1196-4E3B-8594-AF3464B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953F2-4C01-4C9A-84F9-2C2C86073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