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69603"/>
        <c:axId val="37334764"/>
      </c:barChart>
      <c:catAx>
        <c:axId val="35569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4764"/>
        <c:crosses val="autoZero"/>
        <c:auto val="1"/>
        <c:lblAlgn val="ctr"/>
        <c:lblOffset val="100"/>
        <c:noMultiLvlLbl val="0"/>
      </c:catAx>
      <c:valAx>
        <c:axId val="37334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69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D05-00B9-422E-8AAC-51C7C210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DD0-CC24-4962-8906-F94B0B97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CD8-B25D-40D6-A8E2-C408C4AC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CB9-3C57-4F09-BB19-F7B6B228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415-E12D-448C-BAB7-02F38F4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C20-06E4-4CD9-9850-D38BA939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2CC-739D-4B43-9AFB-A1986319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AA9-5C0E-4E7F-9C22-922FDA3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04A-377A-4065-84DA-56A362E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7E3-D254-4DE4-A613-D10DF5C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C62-45BE-4F8B-87BA-5A006647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767-4D25-49D7-B589-6D65044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3C05E-7D0D-408A-90FF-30FAD2C4D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