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48541"/>
        <c:axId val="58804123"/>
      </c:barChart>
      <c:catAx>
        <c:axId val="23048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04123"/>
        <c:crosses val="autoZero"/>
        <c:auto val="1"/>
        <c:lblAlgn val="ctr"/>
        <c:lblOffset val="100"/>
        <c:noMultiLvlLbl val="0"/>
      </c:catAx>
      <c:valAx>
        <c:axId val="58804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48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35CB-595D-44BD-96AF-CC8193A9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633-7BD6-4A1F-A7C6-35B09217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F3FC-DECE-4111-B629-44515C4D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486F-7A35-403B-9CB5-8325F747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B09-650B-483D-8F40-95DE607D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7053-6591-4547-BB03-DEEEAFD5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CA7-A530-46B6-AAE1-D2DB1A63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ABD-4718-4E5F-A72F-E66AC36B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16E-EE28-46B8-BEBA-B8A1C654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DFA-2F0D-441D-B5AF-CA804658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02A-1483-408D-B6D6-716EAF47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8521-E34B-4418-9332-7D3FA53A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AEE19-714B-4360-9AB8-320E01CB04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