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03355"/>
        <c:axId val="8810757"/>
      </c:barChart>
      <c:catAx>
        <c:axId val="10903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0757"/>
        <c:crosses val="autoZero"/>
        <c:auto val="1"/>
        <c:lblAlgn val="ctr"/>
        <c:lblOffset val="100"/>
        <c:noMultiLvlLbl val="0"/>
      </c:catAx>
      <c:valAx>
        <c:axId val="8810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03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A05-5EB8-4890-9C74-1B09C484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931-228C-4A3D-9945-7467AA4E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987-EE30-440B-9A5C-1978D2BA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C6A-E969-449C-86DE-9BEDC94F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54C-7020-4D30-A68D-E8CE2FC4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415-8FCE-44F9-8006-BFFB7C77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32F-5E58-400E-B229-A3AF309F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B29-2AB2-4690-9591-B0C2CC70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072-601A-4E5B-BFC4-4D415A1C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199-8198-4339-ADF0-2AD8817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DF9-AE7F-4301-96C4-EE13E79B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2D5-D9A4-4CCE-9F1C-8AAE93FB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FCCD8-5E94-44F9-93C2-F7E89D9F34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