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46239"/>
        <c:axId val="23913671"/>
      </c:barChart>
      <c:catAx>
        <c:axId val="45546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13671"/>
        <c:crosses val="autoZero"/>
        <c:auto val="1"/>
        <c:lblAlgn val="ctr"/>
        <c:lblOffset val="100"/>
        <c:noMultiLvlLbl val="0"/>
      </c:catAx>
      <c:valAx>
        <c:axId val="23913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46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9A0-1D23-4E46-B9CF-29112CC9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D86-64CC-47E3-AAEF-F85AE7AD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C24-204B-407B-BD57-7B2267F7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FC4-B254-4E35-8AF9-7D50958C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FF8-EECE-4A27-A08C-05354015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FDC-68D5-4E1D-AFEC-C8F0C929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AC3-08C4-4956-A9B7-DA523FC2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A1E-D7C4-4372-8707-710AAF90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9E1-B20A-4422-A887-888BA599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50C-4291-4B30-8CD1-60C70E01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D54-62BA-422A-A211-1347EC27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3D6-9646-4D93-AB69-D683ADB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7A670-8C74-4598-B367-D02801D642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